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3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10.wmf" ContentType="image/x-wmf"/>
  <Override PartName="/ppt/media/image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jpeg" ContentType="image/jpeg"/>
  <Override PartName="/ppt/media/image25.wmf" ContentType="image/x-wmf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  <p:sldId id="279" r:id="rId35"/>
    <p:sldId id="280" r:id="rId36"/>
    <p:sldId id="281" r:id="rId37"/>
    <p:sldId id="282" r:id="rId38"/>
    <p:sldId id="283" r:id="rId39"/>
    <p:sldId id="284" r:id="rId40"/>
    <p:sldId id="285" r:id="rId41"/>
    <p:sldId id="286" r:id="rId42"/>
    <p:sldId id="287" r:id="rId43"/>
    <p:sldId id="288" r:id="rId44"/>
    <p:sldId id="289" r:id="rId45"/>
    <p:sldId id="290" r:id="rId46"/>
    <p:sldId id="291" r:id="rId47"/>
    <p:sldId id="292" r:id="rId48"/>
    <p:sldId id="293" r:id="rId49"/>
    <p:sldId id="294" r:id="rId50"/>
    <p:sldId id="295" r:id="rId51"/>
    <p:sldId id="296" r:id="rId52"/>
    <p:sldId id="297" r:id="rId53"/>
    <p:sldId id="298" r:id="rId54"/>
    <p:sldId id="299" r:id="rId55"/>
    <p:sldId id="300" r:id="rId56"/>
    <p:sldId id="301" r:id="rId57"/>
    <p:sldId id="302" r:id="rId58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slide" Target="slides/slide24.xml"/><Relationship Id="rId36" Type="http://schemas.openxmlformats.org/officeDocument/2006/relationships/slide" Target="slides/slide25.xml"/><Relationship Id="rId37" Type="http://schemas.openxmlformats.org/officeDocument/2006/relationships/slide" Target="slides/slide26.xml"/><Relationship Id="rId38" Type="http://schemas.openxmlformats.org/officeDocument/2006/relationships/slide" Target="slides/slide27.xml"/><Relationship Id="rId39" Type="http://schemas.openxmlformats.org/officeDocument/2006/relationships/slide" Target="slides/slide28.xml"/><Relationship Id="rId40" Type="http://schemas.openxmlformats.org/officeDocument/2006/relationships/slide" Target="slides/slide29.xml"/><Relationship Id="rId41" Type="http://schemas.openxmlformats.org/officeDocument/2006/relationships/slide" Target="slides/slide30.xml"/><Relationship Id="rId42" Type="http://schemas.openxmlformats.org/officeDocument/2006/relationships/slide" Target="slides/slide31.xml"/><Relationship Id="rId43" Type="http://schemas.openxmlformats.org/officeDocument/2006/relationships/slide" Target="slides/slide32.xml"/><Relationship Id="rId44" Type="http://schemas.openxmlformats.org/officeDocument/2006/relationships/slide" Target="slides/slide33.xml"/><Relationship Id="rId45" Type="http://schemas.openxmlformats.org/officeDocument/2006/relationships/slide" Target="slides/slide34.xml"/><Relationship Id="rId46" Type="http://schemas.openxmlformats.org/officeDocument/2006/relationships/slide" Target="slides/slide35.xml"/><Relationship Id="rId47" Type="http://schemas.openxmlformats.org/officeDocument/2006/relationships/slide" Target="slides/slide36.xml"/><Relationship Id="rId48" Type="http://schemas.openxmlformats.org/officeDocument/2006/relationships/slide" Target="slides/slide37.xml"/><Relationship Id="rId49" Type="http://schemas.openxmlformats.org/officeDocument/2006/relationships/slide" Target="slides/slide38.xml"/><Relationship Id="rId50" Type="http://schemas.openxmlformats.org/officeDocument/2006/relationships/slide" Target="slides/slide39.xml"/><Relationship Id="rId51" Type="http://schemas.openxmlformats.org/officeDocument/2006/relationships/slide" Target="slides/slide40.xml"/><Relationship Id="rId52" Type="http://schemas.openxmlformats.org/officeDocument/2006/relationships/slide" Target="slides/slide41.xml"/><Relationship Id="rId53" Type="http://schemas.openxmlformats.org/officeDocument/2006/relationships/slide" Target="slides/slide42.xml"/><Relationship Id="rId54" Type="http://schemas.openxmlformats.org/officeDocument/2006/relationships/slide" Target="slides/slide43.xml"/><Relationship Id="rId55" Type="http://schemas.openxmlformats.org/officeDocument/2006/relationships/slide" Target="slides/slide44.xml"/><Relationship Id="rId56" Type="http://schemas.openxmlformats.org/officeDocument/2006/relationships/slide" Target="slides/slide45.xml"/><Relationship Id="rId57" Type="http://schemas.openxmlformats.org/officeDocument/2006/relationships/slide" Target="slides/slide46.xml"/><Relationship Id="rId58" Type="http://schemas.openxmlformats.org/officeDocument/2006/relationships/slide" Target="slides/slide47.xml"/><Relationship Id="rId5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hdr"/>
          </p:nvPr>
        </p:nvSpPr>
        <p:spPr>
          <a:xfrm>
            <a:off x="-1440" y="-5040"/>
            <a:ext cx="3101760" cy="4762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dt" idx="1"/>
          </p:nvPr>
        </p:nvSpPr>
        <p:spPr>
          <a:xfrm>
            <a:off x="4049280" y="-5040"/>
            <a:ext cx="3102120" cy="4762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 type="ftr" idx="2"/>
          </p:nvPr>
        </p:nvSpPr>
        <p:spPr>
          <a:xfrm>
            <a:off x="-1440" y="8975880"/>
            <a:ext cx="3101760" cy="4759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 type="sldNum" idx="3"/>
          </p:nvPr>
        </p:nvSpPr>
        <p:spPr>
          <a:xfrm>
            <a:off x="404928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8C41C365-A5E2-4EDE-AA15-921316DE7598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Rectangle 6"/>
          <p:cNvSpPr/>
          <p:nvPr/>
        </p:nvSpPr>
        <p:spPr>
          <a:xfrm>
            <a:off x="2935440" y="8997840"/>
            <a:ext cx="12776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5360" bIns="453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99CCACA1-9872-4022-BDE9-CCB6629F57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 type="sldImg"/>
          </p:nvPr>
        </p:nvSpPr>
        <p:spPr>
          <a:xfrm>
            <a:off x="1222200" y="717120"/>
            <a:ext cx="4703760" cy="3527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6"/>
          <p:cNvSpPr>
            <a:spLocks noGrp="1"/>
          </p:cNvSpPr>
          <p:nvPr>
            <p:ph type="body"/>
          </p:nvPr>
        </p:nvSpPr>
        <p:spPr>
          <a:xfrm>
            <a:off x="950400" y="4487400"/>
            <a:ext cx="5248440" cy="4249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8600" bIns="4860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5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EC69FD9E-BC20-45C4-99B8-61BC7078A93F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2028960" y="617400"/>
            <a:ext cx="2874960" cy="215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5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B73431FE-486E-4AE8-951E-B2DB0026F34A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2028960" y="617400"/>
            <a:ext cx="2874960" cy="215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5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8C1E60C8-A229-4EFF-9A50-FEC1EC589038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2028960" y="617400"/>
            <a:ext cx="2874960" cy="215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5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55E8F82B-2C28-466B-B276-0104789F0C09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2028960" y="617400"/>
            <a:ext cx="2874960" cy="215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5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A83C7BE4-C204-479A-849A-4FDB0DA5C874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2028960" y="617400"/>
            <a:ext cx="2874960" cy="215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Rectangle 5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0B2FFBF6-80CE-4D3F-BDD7-4162CFA0D1F0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2028960" y="617400"/>
            <a:ext cx="2874960" cy="215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5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CEA1932B-5E47-4F47-AC0E-3CF506D587DD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2054160" y="636480"/>
            <a:ext cx="2824200" cy="211788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582480" y="2876040"/>
            <a:ext cx="5997600" cy="600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Rectangle 5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31FDD79B-EB17-4338-B79B-205D506C9476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2028960" y="617400"/>
            <a:ext cx="2874960" cy="215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5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5C167E13-46C5-4AAE-BF66-F4B3F95B6B67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2028960" y="617400"/>
            <a:ext cx="2874960" cy="215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5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D04D47B5-ED29-4E3C-B1C6-DE068FB07433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2028960" y="617400"/>
            <a:ext cx="2874960" cy="215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Rectangle 5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01DAFA3A-3BE8-4CEF-A4CD-8A2C1576706A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2028960" y="617400"/>
            <a:ext cx="2874960" cy="215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Rectangle 5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24B61CC2-2ABD-42E5-A61F-419A3506037F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2028960" y="617400"/>
            <a:ext cx="2874960" cy="215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5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82B77B8F-8CEE-488C-9936-6A2C52736953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2028960" y="617400"/>
            <a:ext cx="2874960" cy="215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Rectangle 5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31AE3EC6-98EB-414B-8FFF-1C731966F911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2028960" y="617400"/>
            <a:ext cx="2874960" cy="215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Rectangle 5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87525616-FDDA-4F4A-A858-2A578EA1CA5E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2028960" y="617400"/>
            <a:ext cx="2874960" cy="215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5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5E5DF721-881D-4CAC-8EA1-2E66C13E6F03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2028960" y="617400"/>
            <a:ext cx="2874960" cy="215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Rectangle 5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E3A8317D-230F-44B0-BBBA-7FC2F9A24A02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2028960" y="617400"/>
            <a:ext cx="2874960" cy="215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Rectangle 5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F8489A3D-222D-4CD3-AA55-C8B624163888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2028960" y="617400"/>
            <a:ext cx="2874960" cy="215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Rectangle 5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20BED581-E1B4-4D3E-9039-8CD03EDD83DE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2028960" y="617400"/>
            <a:ext cx="2874960" cy="215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Rectangle 5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53FCED29-41CE-4609-8BA0-953C69D245FE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2028960" y="617400"/>
            <a:ext cx="2874960" cy="215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Rectangle 5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C0EBF4CE-7E59-4683-9F7F-D6CDE1D63425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2028960" y="617400"/>
            <a:ext cx="2874960" cy="215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Rectangle 5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A60B788B-5E1F-4C89-95B9-F0DD0799B985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2028960" y="617400"/>
            <a:ext cx="2874960" cy="215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Rectangle 5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329FC811-355A-4BCD-9248-DF8E7E8095C0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1"/>
          <p:cNvSpPr>
            <a:spLocks noGrp="1"/>
          </p:cNvSpPr>
          <p:nvPr>
            <p:ph type="sldImg"/>
          </p:nvPr>
        </p:nvSpPr>
        <p:spPr>
          <a:xfrm>
            <a:off x="2028960" y="617400"/>
            <a:ext cx="2874960" cy="215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Rectangle 5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1FCAC9D4-5E6D-41A1-8503-FDD335B3BCA2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sldImg"/>
          </p:nvPr>
        </p:nvSpPr>
        <p:spPr>
          <a:xfrm>
            <a:off x="2028960" y="617400"/>
            <a:ext cx="2874960" cy="215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Rectangle 5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0511D841-EF88-4ED2-95B5-9619EAB96138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2028960" y="617400"/>
            <a:ext cx="2874960" cy="215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Rectangle 5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6321C056-D3F7-4AD2-89C1-FA356D6B573C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1"/>
          <p:cNvSpPr>
            <a:spLocks noGrp="1"/>
          </p:cNvSpPr>
          <p:nvPr>
            <p:ph type="sldImg"/>
          </p:nvPr>
        </p:nvSpPr>
        <p:spPr>
          <a:xfrm>
            <a:off x="2028960" y="617400"/>
            <a:ext cx="2874960" cy="215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Rectangle 5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70604557-2236-4513-9EE8-6F93A645E4A4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2028960" y="617400"/>
            <a:ext cx="2874960" cy="215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Rectangle 5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7FBE71BC-3A09-4F0F-84B9-7C7173741D0D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2028960" y="617400"/>
            <a:ext cx="2874960" cy="215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Rectangle 5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4F6A8F7A-F53C-4926-BC94-A0C2976550B1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1"/>
          <p:cNvSpPr>
            <a:spLocks noGrp="1"/>
          </p:cNvSpPr>
          <p:nvPr>
            <p:ph type="sldImg"/>
          </p:nvPr>
        </p:nvSpPr>
        <p:spPr>
          <a:xfrm>
            <a:off x="2028960" y="617400"/>
            <a:ext cx="2874960" cy="215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Rectangle 5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5580A0AB-E0E7-4DFC-8565-2538B4F46393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2028960" y="617400"/>
            <a:ext cx="2874960" cy="215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5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309273A6-ED82-4FD2-836A-2FAE66CB5802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body"/>
          </p:nvPr>
        </p:nvSpPr>
        <p:spPr>
          <a:xfrm>
            <a:off x="596520" y="2889360"/>
            <a:ext cx="5970600" cy="6006960"/>
          </a:xfrm>
          <a:prstGeom prst="rect">
            <a:avLst/>
          </a:prstGeom>
          <a:noFill/>
          <a:ln w="25560">
            <a:solidFill>
              <a:srgbClr val="000000"/>
            </a:solidFill>
            <a:prstDash val="sysDot"/>
            <a:miter/>
          </a:ln>
        </p:spPr>
        <p:txBody>
          <a:bodyPr lIns="12600" rIns="12600" tIns="12600" bIns="1260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sldImg"/>
          </p:nvPr>
        </p:nvSpPr>
        <p:spPr>
          <a:xfrm>
            <a:off x="2028960" y="617400"/>
            <a:ext cx="2874960" cy="215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Rectangle 5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CBC9847D-CC07-4BE6-A086-1FB684B26C90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2028960" y="617400"/>
            <a:ext cx="2874960" cy="215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Rectangle 5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5335B80B-447F-4F11-99E0-86941428BA2F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sldImg"/>
          </p:nvPr>
        </p:nvSpPr>
        <p:spPr>
          <a:xfrm>
            <a:off x="2028960" y="617400"/>
            <a:ext cx="2874960" cy="215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Rectangle 5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B89A5EFB-25F9-42D0-B5FD-415DB7F642C1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2028960" y="617400"/>
            <a:ext cx="2874960" cy="215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Rectangle 5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DD9FF397-B501-453F-AA60-80BFBC921506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body"/>
          </p:nvPr>
        </p:nvSpPr>
        <p:spPr>
          <a:xfrm>
            <a:off x="596520" y="2889360"/>
            <a:ext cx="5970600" cy="6006960"/>
          </a:xfrm>
          <a:prstGeom prst="rect">
            <a:avLst/>
          </a:prstGeom>
          <a:noFill/>
          <a:ln w="25560">
            <a:solidFill>
              <a:srgbClr val="000000"/>
            </a:solidFill>
            <a:prstDash val="sysDot"/>
            <a:miter/>
          </a:ln>
        </p:spPr>
        <p:txBody>
          <a:bodyPr lIns="12600" rIns="12600" tIns="12600" bIns="1260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 type="sldImg"/>
          </p:nvPr>
        </p:nvSpPr>
        <p:spPr>
          <a:xfrm>
            <a:off x="2028960" y="617400"/>
            <a:ext cx="2874960" cy="215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Rectangle 5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3FB40928-9490-4F34-808D-1777AE3F6B3C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1"/>
          <p:cNvSpPr>
            <a:spLocks noGrp="1"/>
          </p:cNvSpPr>
          <p:nvPr>
            <p:ph type="body"/>
          </p:nvPr>
        </p:nvSpPr>
        <p:spPr>
          <a:xfrm>
            <a:off x="596520" y="2889360"/>
            <a:ext cx="5970600" cy="6006960"/>
          </a:xfrm>
          <a:prstGeom prst="rect">
            <a:avLst/>
          </a:prstGeom>
          <a:noFill/>
          <a:ln w="25560">
            <a:solidFill>
              <a:srgbClr val="000000"/>
            </a:solidFill>
            <a:prstDash val="sysDot"/>
            <a:miter/>
          </a:ln>
        </p:spPr>
        <p:txBody>
          <a:bodyPr lIns="12600" rIns="12600" tIns="12600" bIns="1260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 type="sldImg"/>
          </p:nvPr>
        </p:nvSpPr>
        <p:spPr>
          <a:xfrm>
            <a:off x="2028960" y="617400"/>
            <a:ext cx="2874960" cy="215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Rectangle 5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EAEB4751-27FB-4618-8530-7406F3462C20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2028960" y="617400"/>
            <a:ext cx="2874960" cy="215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5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78B56BDD-9CF2-479F-91EA-D77A646D10DB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body"/>
          </p:nvPr>
        </p:nvSpPr>
        <p:spPr>
          <a:xfrm>
            <a:off x="596520" y="2889360"/>
            <a:ext cx="5970600" cy="6006960"/>
          </a:xfrm>
          <a:prstGeom prst="rect">
            <a:avLst/>
          </a:prstGeom>
          <a:noFill/>
          <a:ln w="25560">
            <a:solidFill>
              <a:srgbClr val="000000"/>
            </a:solidFill>
            <a:prstDash val="sysDot"/>
            <a:miter/>
          </a:ln>
        </p:spPr>
        <p:txBody>
          <a:bodyPr lIns="12600" rIns="12600" tIns="12600" bIns="1260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 type="sldImg"/>
          </p:nvPr>
        </p:nvSpPr>
        <p:spPr>
          <a:xfrm>
            <a:off x="2028960" y="617400"/>
            <a:ext cx="2874960" cy="215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5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6A528A5F-811C-44BF-B647-0F00C91DCB5E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222200" y="714240"/>
            <a:ext cx="4707000" cy="353088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953640" y="448632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5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76E8C232-379A-4A51-B898-4D37512B9A94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body"/>
          </p:nvPr>
        </p:nvSpPr>
        <p:spPr>
          <a:xfrm>
            <a:off x="596520" y="2889360"/>
            <a:ext cx="5970600" cy="6006960"/>
          </a:xfrm>
          <a:prstGeom prst="rect">
            <a:avLst/>
          </a:prstGeom>
          <a:noFill/>
          <a:ln w="25560">
            <a:solidFill>
              <a:srgbClr val="000000"/>
            </a:solidFill>
            <a:prstDash val="sysDot"/>
            <a:miter/>
          </a:ln>
        </p:spPr>
        <p:txBody>
          <a:bodyPr lIns="12600" rIns="12600" tIns="12600" bIns="1260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ldImg"/>
          </p:nvPr>
        </p:nvSpPr>
        <p:spPr>
          <a:xfrm>
            <a:off x="2028960" y="617400"/>
            <a:ext cx="2874960" cy="215604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01400" y="368316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ubTitle"/>
          </p:nvPr>
        </p:nvSpPr>
        <p:spPr>
          <a:xfrm>
            <a:off x="401400" y="228240"/>
            <a:ext cx="7599240" cy="36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66488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01400" y="368316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466488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321444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602748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0140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6"/>
          <p:cNvSpPr>
            <a:spLocks noGrp="1"/>
          </p:cNvSpPr>
          <p:nvPr>
            <p:ph/>
          </p:nvPr>
        </p:nvSpPr>
        <p:spPr>
          <a:xfrm>
            <a:off x="321444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7"/>
          <p:cNvSpPr>
            <a:spLocks noGrp="1"/>
          </p:cNvSpPr>
          <p:nvPr>
            <p:ph/>
          </p:nvPr>
        </p:nvSpPr>
        <p:spPr>
          <a:xfrm>
            <a:off x="602748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488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1444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748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0140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1444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748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01400" y="228240"/>
            <a:ext cx="7599240" cy="36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6488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1400" y="368316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6488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1444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748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0140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1444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748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01400" y="228240"/>
            <a:ext cx="7599240" cy="36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6488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01400" y="368316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6488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1444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748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0140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1444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748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401400" y="228240"/>
            <a:ext cx="7599240" cy="36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66488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01400" y="368316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66488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21444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02748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0140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321444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602748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401400" y="228240"/>
            <a:ext cx="7599240" cy="36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6488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01400" y="368316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6488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01400" y="228240"/>
            <a:ext cx="7599240" cy="36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1444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2748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0140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1444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2748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401400" y="228240"/>
            <a:ext cx="7599240" cy="36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6488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01400" y="368316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6488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21444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02748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0140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21444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02748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subTitle"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ubTitle"/>
          </p:nvPr>
        </p:nvSpPr>
        <p:spPr>
          <a:xfrm>
            <a:off x="401400" y="228240"/>
            <a:ext cx="7599240" cy="36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488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66488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01400" y="368316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66488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321444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602748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0140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6"/>
          <p:cNvSpPr>
            <a:spLocks noGrp="1"/>
          </p:cNvSpPr>
          <p:nvPr>
            <p:ph/>
          </p:nvPr>
        </p:nvSpPr>
        <p:spPr>
          <a:xfrm>
            <a:off x="321444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7"/>
          <p:cNvSpPr>
            <a:spLocks noGrp="1"/>
          </p:cNvSpPr>
          <p:nvPr>
            <p:ph/>
          </p:nvPr>
        </p:nvSpPr>
        <p:spPr>
          <a:xfrm>
            <a:off x="602748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401400" y="228240"/>
            <a:ext cx="7599240" cy="36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66488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01400" y="368316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66488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21444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602748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0140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21444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602748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subTitle"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6340320"/>
            <a:ext cx="9144000" cy="5176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Slide Number Placeholder 5"/>
          <p:cNvSpPr/>
          <p:nvPr/>
        </p:nvSpPr>
        <p:spPr>
          <a:xfrm>
            <a:off x="8207280" y="6404040"/>
            <a:ext cx="51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D39F3-D8E0-420D-B722-D61FF9A6D227}" type="slidenum"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3"/>
          <p:cNvSpPr/>
          <p:nvPr/>
        </p:nvSpPr>
        <p:spPr>
          <a:xfrm>
            <a:off x="4413240" y="6411960"/>
            <a:ext cx="2019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PSP Fundamentals: Day 2 Agenda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September 2016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2016 Carnegie Mellon Univers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13" descr=""/>
          <p:cNvPicPr/>
          <p:nvPr/>
        </p:nvPicPr>
        <p:blipFill>
          <a:blip r:embed="rId2"/>
          <a:stretch/>
        </p:blipFill>
        <p:spPr>
          <a:xfrm>
            <a:off x="285840" y="6470640"/>
            <a:ext cx="3816360" cy="258840"/>
          </a:xfrm>
          <a:prstGeom prst="rect">
            <a:avLst/>
          </a:prstGeom>
          <a:ln w="0">
            <a:noFill/>
          </a:ln>
        </p:spPr>
      </p:pic>
      <p:sp>
        <p:nvSpPr>
          <p:cNvPr id="4" name="TextBox 14"/>
          <p:cNvSpPr/>
          <p:nvPr/>
        </p:nvSpPr>
        <p:spPr>
          <a:xfrm>
            <a:off x="6502320" y="6411960"/>
            <a:ext cx="187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This material has been approved for public release and unlimited distribution. Please see Copyright notice for non-US Government use and distribution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28560" indent="-171360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914400" indent="-176040">
              <a:spcBef>
                <a:spcPts val="1001"/>
              </a:spcBef>
              <a:buClr>
                <a:srgbClr val="7f7f7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Slide Number Placeholder 5"/>
          <p:cNvSpPr/>
          <p:nvPr/>
        </p:nvSpPr>
        <p:spPr>
          <a:xfrm>
            <a:off x="8207280" y="6404040"/>
            <a:ext cx="51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F8896-8714-4EFC-802D-756196F85117}" type="slidenum"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Text Placeholder 7"/>
          <p:cNvSpPr/>
          <p:nvPr/>
        </p:nvSpPr>
        <p:spPr>
          <a:xfrm>
            <a:off x="401760" y="39600"/>
            <a:ext cx="5346720" cy="1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SP Fundamentals: Day 2 Agend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Line 8"/>
          <p:cNvSpPr/>
          <p:nvPr/>
        </p:nvSpPr>
        <p:spPr>
          <a:xfrm>
            <a:off x="1009800" y="1403280"/>
            <a:ext cx="7435800" cy="0"/>
          </a:xfrm>
          <a:prstGeom prst="line">
            <a:avLst/>
          </a:prstGeom>
          <a:ln w="28440">
            <a:solidFill>
              <a:srgbClr val="97b6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8"/>
          <p:cNvSpPr/>
          <p:nvPr/>
        </p:nvSpPr>
        <p:spPr>
          <a:xfrm>
            <a:off x="0" y="6340320"/>
            <a:ext cx="9144000" cy="5176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Slide Number Placeholder 5"/>
          <p:cNvSpPr/>
          <p:nvPr/>
        </p:nvSpPr>
        <p:spPr>
          <a:xfrm>
            <a:off x="8207280" y="6404040"/>
            <a:ext cx="51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D8746-EC27-41D4-B145-CF42375C90D7}" type="slidenum"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3"/>
          <p:cNvSpPr/>
          <p:nvPr/>
        </p:nvSpPr>
        <p:spPr>
          <a:xfrm>
            <a:off x="4413240" y="6411960"/>
            <a:ext cx="2019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PSP Fundamentals: Day 2 Agenda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September 2016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2016 Carnegie Mellon Univers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3" descr=""/>
          <p:cNvPicPr/>
          <p:nvPr/>
        </p:nvPicPr>
        <p:blipFill>
          <a:blip r:embed="rId2"/>
          <a:stretch/>
        </p:blipFill>
        <p:spPr>
          <a:xfrm>
            <a:off x="285840" y="6470640"/>
            <a:ext cx="3816360" cy="258840"/>
          </a:xfrm>
          <a:prstGeom prst="rect">
            <a:avLst/>
          </a:prstGeom>
          <a:ln w="0">
            <a:noFill/>
          </a:ln>
        </p:spPr>
      </p:pic>
      <p:sp>
        <p:nvSpPr>
          <p:cNvPr id="50" name="TextBox 14"/>
          <p:cNvSpPr/>
          <p:nvPr/>
        </p:nvSpPr>
        <p:spPr>
          <a:xfrm>
            <a:off x="6502320" y="6411960"/>
            <a:ext cx="187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This material has been approved for public release and unlimited distribution. Please see Copyright notice for non-US Government use and distribution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lide Number Placeholder 5"/>
          <p:cNvSpPr/>
          <p:nvPr/>
        </p:nvSpPr>
        <p:spPr>
          <a:xfrm>
            <a:off x="8207280" y="6404040"/>
            <a:ext cx="51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60D73-D3DF-4808-80F7-44DF4293DEC1}" type="slidenum"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Placeholder 7"/>
          <p:cNvSpPr/>
          <p:nvPr/>
        </p:nvSpPr>
        <p:spPr>
          <a:xfrm>
            <a:off x="401760" y="39600"/>
            <a:ext cx="5346720" cy="1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SP Fundamentals: Day 2 Agend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8"/>
          <p:cNvSpPr/>
          <p:nvPr/>
        </p:nvSpPr>
        <p:spPr>
          <a:xfrm>
            <a:off x="1009800" y="1403280"/>
            <a:ext cx="7435800" cy="0"/>
          </a:xfrm>
          <a:prstGeom prst="line">
            <a:avLst/>
          </a:prstGeom>
          <a:ln w="28440">
            <a:solidFill>
              <a:srgbClr val="97b6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Placeholder 5" descr=""/>
          <p:cNvPicPr/>
          <p:nvPr/>
        </p:nvPicPr>
        <p:blipFill>
          <a:blip r:embed="rId3"/>
          <a:srcRect l="9028" t="0" r="0" b="0"/>
          <a:stretch/>
        </p:blipFill>
        <p:spPr>
          <a:xfrm>
            <a:off x="6059520" y="0"/>
            <a:ext cx="3084480" cy="637524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16"/>
          <p:cNvSpPr/>
          <p:nvPr/>
        </p:nvSpPr>
        <p:spPr>
          <a:xfrm>
            <a:off x="0" y="-17640"/>
            <a:ext cx="6059520" cy="6400800"/>
          </a:xfrm>
          <a:prstGeom prst="rect">
            <a:avLst/>
          </a:prstGeom>
          <a:solidFill>
            <a:srgbClr val="0056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17"/>
          <p:cNvSpPr/>
          <p:nvPr/>
        </p:nvSpPr>
        <p:spPr>
          <a:xfrm>
            <a:off x="380880" y="5492880"/>
            <a:ext cx="478944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oftware Engineering Institu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Carnegie Mellon Univer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Pittsburgh, PA  152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8"/>
          <p:cNvSpPr/>
          <p:nvPr/>
        </p:nvSpPr>
        <p:spPr>
          <a:xfrm>
            <a:off x="0" y="6340320"/>
            <a:ext cx="9144000" cy="517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9" descr=""/>
          <p:cNvPicPr/>
          <p:nvPr/>
        </p:nvPicPr>
        <p:blipFill>
          <a:blip r:embed="rId4"/>
          <a:stretch/>
        </p:blipFill>
        <p:spPr>
          <a:xfrm>
            <a:off x="266760" y="6480000"/>
            <a:ext cx="3835440" cy="25884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73"/>
          <p:cNvSpPr/>
          <p:nvPr/>
        </p:nvSpPr>
        <p:spPr>
          <a:xfrm>
            <a:off x="4413240" y="6411960"/>
            <a:ext cx="20192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600" spc="-1" strike="noStrike">
                <a:solidFill>
                  <a:srgbClr val="ffffff"/>
                </a:solidFill>
                <a:latin typeface="Arial"/>
                <a:ea typeface="Arial"/>
              </a:rPr>
              <a:t>2016 Carnegie Mellon Univers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21"/>
          <p:cNvSpPr/>
          <p:nvPr/>
        </p:nvSpPr>
        <p:spPr>
          <a:xfrm>
            <a:off x="6502320" y="6411960"/>
            <a:ext cx="187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Arial"/>
                <a:ea typeface="Arial"/>
              </a:rPr>
              <a:t>This material has been approved for public release and unlimited distribution. Please see Copyright notice for non-US Government use and distribution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28560" indent="-171360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914400" indent="-176040">
              <a:spcBef>
                <a:spcPts val="1001"/>
              </a:spcBef>
              <a:buClr>
                <a:srgbClr val="7f7f7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8"/>
          <p:cNvSpPr/>
          <p:nvPr/>
        </p:nvSpPr>
        <p:spPr>
          <a:xfrm>
            <a:off x="0" y="6340320"/>
            <a:ext cx="9144000" cy="5176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lide Number Placeholder 5"/>
          <p:cNvSpPr/>
          <p:nvPr/>
        </p:nvSpPr>
        <p:spPr>
          <a:xfrm>
            <a:off x="8207280" y="6404040"/>
            <a:ext cx="51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A735C-F330-43FD-9268-F5BE3E598F95}" type="slidenum"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3"/>
          <p:cNvSpPr/>
          <p:nvPr/>
        </p:nvSpPr>
        <p:spPr>
          <a:xfrm>
            <a:off x="4413240" y="6411960"/>
            <a:ext cx="2019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PSP Fundamentals: Day 2 Agenda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September 2016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2016 Carnegie Mellon Univers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13" descr=""/>
          <p:cNvPicPr/>
          <p:nvPr/>
        </p:nvPicPr>
        <p:blipFill>
          <a:blip r:embed="rId2"/>
          <a:stretch/>
        </p:blipFill>
        <p:spPr>
          <a:xfrm>
            <a:off x="285840" y="6470640"/>
            <a:ext cx="3816360" cy="258840"/>
          </a:xfrm>
          <a:prstGeom prst="rect">
            <a:avLst/>
          </a:prstGeom>
          <a:ln w="0">
            <a:noFill/>
          </a:ln>
        </p:spPr>
      </p:pic>
      <p:sp>
        <p:nvSpPr>
          <p:cNvPr id="103" name="TextBox 14"/>
          <p:cNvSpPr/>
          <p:nvPr/>
        </p:nvSpPr>
        <p:spPr>
          <a:xfrm>
            <a:off x="6502320" y="6411960"/>
            <a:ext cx="187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This material has been approved for public release and unlimited distribution. Please see Copyright notice for non-US Government use and distribution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lide Number Placeholder 5"/>
          <p:cNvSpPr/>
          <p:nvPr/>
        </p:nvSpPr>
        <p:spPr>
          <a:xfrm>
            <a:off x="8207280" y="6404040"/>
            <a:ext cx="51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7BF1A-73D4-4E3E-90A0-D5CCC85DEEBD}" type="slidenum"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Placeholder 7"/>
          <p:cNvSpPr/>
          <p:nvPr/>
        </p:nvSpPr>
        <p:spPr>
          <a:xfrm>
            <a:off x="401760" y="39600"/>
            <a:ext cx="5346720" cy="1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SP Fundamentals: Day 2 Agend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8"/>
          <p:cNvSpPr/>
          <p:nvPr/>
        </p:nvSpPr>
        <p:spPr>
          <a:xfrm>
            <a:off x="1009800" y="1403280"/>
            <a:ext cx="7435800" cy="0"/>
          </a:xfrm>
          <a:prstGeom prst="line">
            <a:avLst/>
          </a:prstGeom>
          <a:ln w="28440">
            <a:solidFill>
              <a:srgbClr val="97b6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5"/>
          <p:cNvSpPr/>
          <p:nvPr/>
        </p:nvSpPr>
        <p:spPr>
          <a:xfrm>
            <a:off x="0" y="6340320"/>
            <a:ext cx="9144000" cy="517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6"/>
          <p:cNvSpPr/>
          <p:nvPr/>
        </p:nvSpPr>
        <p:spPr>
          <a:xfrm>
            <a:off x="6059520" y="6392880"/>
            <a:ext cx="3084480" cy="465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17" descr=""/>
          <p:cNvPicPr/>
          <p:nvPr/>
        </p:nvPicPr>
        <p:blipFill>
          <a:blip r:embed="rId3"/>
          <a:stretch/>
        </p:blipFill>
        <p:spPr>
          <a:xfrm>
            <a:off x="266760" y="6480000"/>
            <a:ext cx="3835440" cy="25884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73"/>
          <p:cNvSpPr/>
          <p:nvPr/>
        </p:nvSpPr>
        <p:spPr>
          <a:xfrm>
            <a:off x="4413240" y="6411960"/>
            <a:ext cx="20192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Arial"/>
                <a:ea typeface="Arial"/>
              </a:rPr>
              <a:t>© 2016 Carnegie Mellon Univers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19"/>
          <p:cNvSpPr/>
          <p:nvPr/>
        </p:nvSpPr>
        <p:spPr>
          <a:xfrm>
            <a:off x="6502320" y="6411960"/>
            <a:ext cx="18734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Arial"/>
                <a:ea typeface="Arial"/>
              </a:rPr>
              <a:t>[</a:t>
            </a:r>
            <a:r>
              <a:rPr b="0" lang="en-US" sz="500" spc="-1" strike="noStrike">
                <a:solidFill>
                  <a:srgbClr val="ffffff"/>
                </a:solidFill>
                <a:latin typeface="Arial"/>
                <a:ea typeface="Arial"/>
              </a:rPr>
              <a:t>DISTRIBUTION STATEMENT Please copy and paste the appropriate distribution statement into this space.]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28560" indent="-171360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914400" indent="-176040">
              <a:spcBef>
                <a:spcPts val="1001"/>
              </a:spcBef>
              <a:buClr>
                <a:srgbClr val="7f7f7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8"/>
          <p:cNvSpPr/>
          <p:nvPr/>
        </p:nvSpPr>
        <p:spPr>
          <a:xfrm>
            <a:off x="0" y="6340320"/>
            <a:ext cx="9144000" cy="5176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Slide Number Placeholder 5"/>
          <p:cNvSpPr/>
          <p:nvPr/>
        </p:nvSpPr>
        <p:spPr>
          <a:xfrm>
            <a:off x="8207280" y="6404040"/>
            <a:ext cx="51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F7A00-972A-48DC-9D37-847716627AC0}" type="slidenum"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73"/>
          <p:cNvSpPr/>
          <p:nvPr/>
        </p:nvSpPr>
        <p:spPr>
          <a:xfrm>
            <a:off x="4413240" y="6411960"/>
            <a:ext cx="2019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PSP Fundamentals: Day 2 Agenda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September 2016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2016 Carnegie Mellon Univers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13" descr=""/>
          <p:cNvPicPr/>
          <p:nvPr/>
        </p:nvPicPr>
        <p:blipFill>
          <a:blip r:embed="rId2"/>
          <a:stretch/>
        </p:blipFill>
        <p:spPr>
          <a:xfrm>
            <a:off x="285840" y="6470640"/>
            <a:ext cx="3816360" cy="258840"/>
          </a:xfrm>
          <a:prstGeom prst="rect">
            <a:avLst/>
          </a:prstGeom>
          <a:ln w="0">
            <a:noFill/>
          </a:ln>
        </p:spPr>
      </p:pic>
      <p:sp>
        <p:nvSpPr>
          <p:cNvPr id="154" name="TextBox 14"/>
          <p:cNvSpPr/>
          <p:nvPr/>
        </p:nvSpPr>
        <p:spPr>
          <a:xfrm>
            <a:off x="6502320" y="6411960"/>
            <a:ext cx="187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This material has been approved for public release and unlimited distribution. Please see Copyright notice for non-US Government use and distribution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5"/>
          <p:cNvSpPr/>
          <p:nvPr/>
        </p:nvSpPr>
        <p:spPr>
          <a:xfrm>
            <a:off x="8207280" y="6404040"/>
            <a:ext cx="51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CB104-A151-44CF-978E-5855F77C1D66}" type="slidenum"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Placeholder 7"/>
          <p:cNvSpPr/>
          <p:nvPr/>
        </p:nvSpPr>
        <p:spPr>
          <a:xfrm>
            <a:off x="401760" y="39600"/>
            <a:ext cx="5346720" cy="1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SP Fundamentals: Day 2 Agend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8"/>
          <p:cNvSpPr/>
          <p:nvPr/>
        </p:nvSpPr>
        <p:spPr>
          <a:xfrm>
            <a:off x="1009800" y="1403280"/>
            <a:ext cx="7435800" cy="0"/>
          </a:xfrm>
          <a:prstGeom prst="line">
            <a:avLst/>
          </a:prstGeom>
          <a:ln w="28440">
            <a:solidFill>
              <a:srgbClr val="97b6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15" descr=""/>
          <p:cNvPicPr/>
          <p:nvPr/>
        </p:nvPicPr>
        <p:blipFill>
          <a:blip r:embed="rId3"/>
          <a:srcRect l="5173" t="0" r="0" b="0"/>
          <a:stretch/>
        </p:blipFill>
        <p:spPr>
          <a:xfrm>
            <a:off x="11160" y="1098720"/>
            <a:ext cx="3227400" cy="524160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28560" indent="-171360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914400" indent="-176040">
              <a:spcBef>
                <a:spcPts val="1001"/>
              </a:spcBef>
              <a:buClr>
                <a:srgbClr val="7f7f7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8"/>
          <p:cNvSpPr/>
          <p:nvPr/>
        </p:nvSpPr>
        <p:spPr>
          <a:xfrm>
            <a:off x="0" y="6340320"/>
            <a:ext cx="9144000" cy="5176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lide Number Placeholder 5"/>
          <p:cNvSpPr/>
          <p:nvPr/>
        </p:nvSpPr>
        <p:spPr>
          <a:xfrm>
            <a:off x="8207280" y="6404040"/>
            <a:ext cx="51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3E3DD-4A2E-410B-88F7-41B96D7058A9}" type="slidenum"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73"/>
          <p:cNvSpPr/>
          <p:nvPr/>
        </p:nvSpPr>
        <p:spPr>
          <a:xfrm>
            <a:off x="4413240" y="6411960"/>
            <a:ext cx="2019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PSP Fundamentals: Day 2 Agenda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September 2016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2016 Carnegie Mellon Univers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13" descr=""/>
          <p:cNvPicPr/>
          <p:nvPr/>
        </p:nvPicPr>
        <p:blipFill>
          <a:blip r:embed="rId2"/>
          <a:stretch/>
        </p:blipFill>
        <p:spPr>
          <a:xfrm>
            <a:off x="285840" y="6470640"/>
            <a:ext cx="3816360" cy="258840"/>
          </a:xfrm>
          <a:prstGeom prst="rect">
            <a:avLst/>
          </a:prstGeom>
          <a:ln w="0">
            <a:noFill/>
          </a:ln>
        </p:spPr>
      </p:pic>
      <p:sp>
        <p:nvSpPr>
          <p:cNvPr id="201" name="TextBox 14"/>
          <p:cNvSpPr/>
          <p:nvPr/>
        </p:nvSpPr>
        <p:spPr>
          <a:xfrm>
            <a:off x="6502320" y="6411960"/>
            <a:ext cx="187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This material has been approved for public release and unlimited distribution. Please see Copyright notice for non-US Government use and distribution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Slide Number Placeholder 5"/>
          <p:cNvSpPr/>
          <p:nvPr/>
        </p:nvSpPr>
        <p:spPr>
          <a:xfrm>
            <a:off x="8207280" y="6404040"/>
            <a:ext cx="51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0A919-22C2-40F8-9A0F-845635A9B46E}" type="slidenum"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Placeholder 7"/>
          <p:cNvSpPr/>
          <p:nvPr/>
        </p:nvSpPr>
        <p:spPr>
          <a:xfrm>
            <a:off x="401760" y="39600"/>
            <a:ext cx="5346720" cy="1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SP Fundamentals: Day 2 Agend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8"/>
          <p:cNvSpPr/>
          <p:nvPr/>
        </p:nvSpPr>
        <p:spPr>
          <a:xfrm>
            <a:off x="1009800" y="1403280"/>
            <a:ext cx="7435800" cy="0"/>
          </a:xfrm>
          <a:prstGeom prst="line">
            <a:avLst/>
          </a:prstGeom>
          <a:ln w="28440">
            <a:solidFill>
              <a:srgbClr val="97b6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5"/>
          <p:cNvSpPr/>
          <p:nvPr/>
        </p:nvSpPr>
        <p:spPr>
          <a:xfrm>
            <a:off x="0" y="-17640"/>
            <a:ext cx="9144000" cy="6355080"/>
          </a:xfrm>
          <a:prstGeom prst="rect">
            <a:avLst/>
          </a:prstGeom>
          <a:solidFill>
            <a:srgbClr val="0056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16"/>
          <p:cNvSpPr/>
          <p:nvPr/>
        </p:nvSpPr>
        <p:spPr>
          <a:xfrm>
            <a:off x="0" y="6340320"/>
            <a:ext cx="9144000" cy="517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17" descr=""/>
          <p:cNvPicPr/>
          <p:nvPr/>
        </p:nvPicPr>
        <p:blipFill>
          <a:blip r:embed="rId3"/>
          <a:stretch/>
        </p:blipFill>
        <p:spPr>
          <a:xfrm>
            <a:off x="266760" y="6480000"/>
            <a:ext cx="3835440" cy="258840"/>
          </a:xfrm>
          <a:prstGeom prst="rect">
            <a:avLst/>
          </a:prstGeom>
          <a:ln w="0">
            <a:noFill/>
          </a:ln>
        </p:spPr>
      </p:pic>
      <p:sp>
        <p:nvSpPr>
          <p:cNvPr id="208" name="Rectangle 18"/>
          <p:cNvSpPr/>
          <p:nvPr/>
        </p:nvSpPr>
        <p:spPr>
          <a:xfrm>
            <a:off x="6059520" y="6392880"/>
            <a:ext cx="3084480" cy="465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73"/>
          <p:cNvSpPr/>
          <p:nvPr/>
        </p:nvSpPr>
        <p:spPr>
          <a:xfrm>
            <a:off x="4413240" y="6411960"/>
            <a:ext cx="2019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Arial"/>
                <a:ea typeface="Arial"/>
              </a:rPr>
              <a:t>PSP Fundamentals: Day 2 Agend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Arial"/>
                <a:ea typeface="Arial"/>
              </a:rPr>
              <a:t>© 2016 Carnegie Mellon Univers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20"/>
          <p:cNvSpPr/>
          <p:nvPr/>
        </p:nvSpPr>
        <p:spPr>
          <a:xfrm>
            <a:off x="6502320" y="6411960"/>
            <a:ext cx="18734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Arial"/>
                <a:ea typeface="Arial"/>
              </a:rPr>
              <a:t>[</a:t>
            </a:r>
            <a:r>
              <a:rPr b="0" lang="en-US" sz="500" spc="-1" strike="noStrike">
                <a:solidFill>
                  <a:srgbClr val="ffffff"/>
                </a:solidFill>
                <a:latin typeface="Arial"/>
                <a:ea typeface="Arial"/>
              </a:rPr>
              <a:t>DISTRIBUTION STATEMENT Please copy and paste the appropriate distribution statement into this space.]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28560" indent="-171360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914400" indent="-176040">
              <a:spcBef>
                <a:spcPts val="1001"/>
              </a:spcBef>
              <a:buClr>
                <a:srgbClr val="7f7f7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8"/>
          <p:cNvSpPr/>
          <p:nvPr/>
        </p:nvSpPr>
        <p:spPr>
          <a:xfrm>
            <a:off x="0" y="6340320"/>
            <a:ext cx="9144000" cy="5176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Slide Number Placeholder 5"/>
          <p:cNvSpPr/>
          <p:nvPr/>
        </p:nvSpPr>
        <p:spPr>
          <a:xfrm>
            <a:off x="8207280" y="6404040"/>
            <a:ext cx="51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1840B-257E-4951-9A60-8C27124F7D5C}" type="slidenum"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73"/>
          <p:cNvSpPr/>
          <p:nvPr/>
        </p:nvSpPr>
        <p:spPr>
          <a:xfrm>
            <a:off x="4413240" y="6411960"/>
            <a:ext cx="2019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PSP Fundamentals: Day 2 Agenda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September 2016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2016 Carnegie Mellon Univers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13" descr=""/>
          <p:cNvPicPr/>
          <p:nvPr/>
        </p:nvPicPr>
        <p:blipFill>
          <a:blip r:embed="rId2"/>
          <a:stretch/>
        </p:blipFill>
        <p:spPr>
          <a:xfrm>
            <a:off x="285840" y="6470640"/>
            <a:ext cx="3816360" cy="258840"/>
          </a:xfrm>
          <a:prstGeom prst="rect">
            <a:avLst/>
          </a:prstGeom>
          <a:ln w="0">
            <a:noFill/>
          </a:ln>
        </p:spPr>
      </p:pic>
      <p:sp>
        <p:nvSpPr>
          <p:cNvPr id="253" name="TextBox 14"/>
          <p:cNvSpPr/>
          <p:nvPr/>
        </p:nvSpPr>
        <p:spPr>
          <a:xfrm>
            <a:off x="6502320" y="6411960"/>
            <a:ext cx="187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This material has been approved for public release and unlimited distribution. Please see Copyright notice for non-US Government use and distribution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Slide Number Placeholder 5"/>
          <p:cNvSpPr/>
          <p:nvPr/>
        </p:nvSpPr>
        <p:spPr>
          <a:xfrm>
            <a:off x="8207280" y="6404040"/>
            <a:ext cx="51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876E7-3827-46F8-B2DB-E085A705D2D3}" type="slidenum"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Placeholder 7"/>
          <p:cNvSpPr/>
          <p:nvPr/>
        </p:nvSpPr>
        <p:spPr>
          <a:xfrm>
            <a:off x="401760" y="39600"/>
            <a:ext cx="5346720" cy="1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SP Fundamentals: Day 2 Agend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8"/>
          <p:cNvSpPr/>
          <p:nvPr/>
        </p:nvSpPr>
        <p:spPr>
          <a:xfrm>
            <a:off x="1009800" y="1403280"/>
            <a:ext cx="7435800" cy="0"/>
          </a:xfrm>
          <a:prstGeom prst="line">
            <a:avLst/>
          </a:prstGeom>
          <a:ln w="28440">
            <a:solidFill>
              <a:srgbClr val="97b6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28560" indent="-171360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914400" indent="-176040">
              <a:spcBef>
                <a:spcPts val="1001"/>
              </a:spcBef>
              <a:buClr>
                <a:srgbClr val="7f7f7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8"/>
          <p:cNvSpPr/>
          <p:nvPr/>
        </p:nvSpPr>
        <p:spPr>
          <a:xfrm>
            <a:off x="0" y="6340320"/>
            <a:ext cx="9144000" cy="5176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Slide Number Placeholder 5"/>
          <p:cNvSpPr/>
          <p:nvPr/>
        </p:nvSpPr>
        <p:spPr>
          <a:xfrm>
            <a:off x="8207280" y="6404040"/>
            <a:ext cx="51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3DA10-8390-419B-ABD3-150862827345}" type="slidenum"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73"/>
          <p:cNvSpPr/>
          <p:nvPr/>
        </p:nvSpPr>
        <p:spPr>
          <a:xfrm>
            <a:off x="4413240" y="6411960"/>
            <a:ext cx="2019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PSP Fundamentals: Day 2 Agenda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September 2016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2016 Carnegie Mellon Univers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13" descr=""/>
          <p:cNvPicPr/>
          <p:nvPr/>
        </p:nvPicPr>
        <p:blipFill>
          <a:blip r:embed="rId2"/>
          <a:stretch/>
        </p:blipFill>
        <p:spPr>
          <a:xfrm>
            <a:off x="285840" y="6470640"/>
            <a:ext cx="3816360" cy="258840"/>
          </a:xfrm>
          <a:prstGeom prst="rect">
            <a:avLst/>
          </a:prstGeom>
          <a:ln w="0">
            <a:noFill/>
          </a:ln>
        </p:spPr>
      </p:pic>
      <p:sp>
        <p:nvSpPr>
          <p:cNvPr id="299" name="TextBox 14"/>
          <p:cNvSpPr/>
          <p:nvPr/>
        </p:nvSpPr>
        <p:spPr>
          <a:xfrm>
            <a:off x="6502320" y="6411960"/>
            <a:ext cx="187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This material has been approved for public release and unlimited distribution. Please see Copyright notice for non-US Government use and distribution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Slide Number Placeholder 5"/>
          <p:cNvSpPr/>
          <p:nvPr/>
        </p:nvSpPr>
        <p:spPr>
          <a:xfrm>
            <a:off x="8207280" y="6404040"/>
            <a:ext cx="51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8559D-AE99-4A3E-9E7D-B326826D931A}" type="slidenum"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Placeholder 7"/>
          <p:cNvSpPr/>
          <p:nvPr/>
        </p:nvSpPr>
        <p:spPr>
          <a:xfrm>
            <a:off x="401760" y="39600"/>
            <a:ext cx="5346720" cy="1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SP Fundamentals: Day 2 Agend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Line 8"/>
          <p:cNvSpPr/>
          <p:nvPr/>
        </p:nvSpPr>
        <p:spPr>
          <a:xfrm>
            <a:off x="1009800" y="1403280"/>
            <a:ext cx="7435800" cy="0"/>
          </a:xfrm>
          <a:prstGeom prst="line">
            <a:avLst/>
          </a:prstGeom>
          <a:ln w="28440">
            <a:solidFill>
              <a:srgbClr val="97b6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28560" indent="-171360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914400" indent="-176040">
              <a:spcBef>
                <a:spcPts val="1001"/>
              </a:spcBef>
              <a:buClr>
                <a:srgbClr val="7f7f7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8"/>
          <p:cNvSpPr/>
          <p:nvPr/>
        </p:nvSpPr>
        <p:spPr>
          <a:xfrm>
            <a:off x="0" y="6340320"/>
            <a:ext cx="9144000" cy="5176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Slide Number Placeholder 5"/>
          <p:cNvSpPr/>
          <p:nvPr/>
        </p:nvSpPr>
        <p:spPr>
          <a:xfrm>
            <a:off x="8207280" y="6404040"/>
            <a:ext cx="51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BCCE0-AE7F-40DC-96B9-10A304354095}" type="slidenum"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73"/>
          <p:cNvSpPr/>
          <p:nvPr/>
        </p:nvSpPr>
        <p:spPr>
          <a:xfrm>
            <a:off x="4413240" y="6411960"/>
            <a:ext cx="2019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PSP Fundamentals: Day 2 Agenda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September 2016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2016 Carnegie Mellon Univers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Picture 13" descr=""/>
          <p:cNvPicPr/>
          <p:nvPr/>
        </p:nvPicPr>
        <p:blipFill>
          <a:blip r:embed="rId2"/>
          <a:stretch/>
        </p:blipFill>
        <p:spPr>
          <a:xfrm>
            <a:off x="285840" y="6470640"/>
            <a:ext cx="3816360" cy="258840"/>
          </a:xfrm>
          <a:prstGeom prst="rect">
            <a:avLst/>
          </a:prstGeom>
          <a:ln w="0">
            <a:noFill/>
          </a:ln>
        </p:spPr>
      </p:pic>
      <p:sp>
        <p:nvSpPr>
          <p:cNvPr id="345" name="TextBox 14"/>
          <p:cNvSpPr/>
          <p:nvPr/>
        </p:nvSpPr>
        <p:spPr>
          <a:xfrm>
            <a:off x="6502320" y="6411960"/>
            <a:ext cx="187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This material has been approved for public release and unlimited distribution. Please see Copyright notice for non-US Government use and distribution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Slide Number Placeholder 5"/>
          <p:cNvSpPr/>
          <p:nvPr/>
        </p:nvSpPr>
        <p:spPr>
          <a:xfrm>
            <a:off x="8207280" y="6404040"/>
            <a:ext cx="51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78C50-F3E7-4EB7-970B-86D694BF7E98}" type="slidenum"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Placeholder 7"/>
          <p:cNvSpPr/>
          <p:nvPr/>
        </p:nvSpPr>
        <p:spPr>
          <a:xfrm>
            <a:off x="401760" y="39600"/>
            <a:ext cx="5346720" cy="1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SP Fundamentals: Day 2 Agend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Line 8"/>
          <p:cNvSpPr/>
          <p:nvPr/>
        </p:nvSpPr>
        <p:spPr>
          <a:xfrm>
            <a:off x="1009800" y="1403280"/>
            <a:ext cx="7435800" cy="0"/>
          </a:xfrm>
          <a:prstGeom prst="line">
            <a:avLst/>
          </a:prstGeom>
          <a:ln w="28440">
            <a:solidFill>
              <a:srgbClr val="97b6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28560" indent="-171360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914400" indent="-176040">
              <a:spcBef>
                <a:spcPts val="1001"/>
              </a:spcBef>
              <a:buClr>
                <a:srgbClr val="7f7f7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9"/>
          <p:cNvSpPr/>
          <p:nvPr/>
        </p:nvSpPr>
        <p:spPr>
          <a:xfrm>
            <a:off x="5578560" y="6567480"/>
            <a:ext cx="356544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t">
            <a:spAutoFit/>
          </a:bodyPr>
          <a:p>
            <a:pPr algn="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SP II - Software Design I - </a:t>
            </a:r>
            <a:fld id="{EAAA01FF-72D6-4401-8A3F-490103D5FC88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28560" indent="-171360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914400" indent="-176040">
              <a:spcBef>
                <a:spcPts val="1001"/>
              </a:spcBef>
              <a:buClr>
                <a:srgbClr val="7f7f7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package" Target="../embeddings/oleObject1.docx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package" Target="../embeddings/oleObject1.docx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0.wmf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2.wmf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package" Target="../embeddings/oleObject1.docx"/><Relationship Id="rId3" Type="http://schemas.openxmlformats.org/officeDocument/2006/relationships/image" Target="../media/image2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Text Box 10"/>
          <p:cNvSpPr/>
          <p:nvPr/>
        </p:nvSpPr>
        <p:spPr>
          <a:xfrm>
            <a:off x="993600" y="1584360"/>
            <a:ext cx="6342120" cy="211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 Narrow"/>
              </a:rPr>
              <a:t>Personal Software Process</a:t>
            </a:r>
            <a:r>
              <a:rPr b="1" lang="en-US" sz="3100" spc="-1" strike="noStrike" baseline="30000">
                <a:solidFill>
                  <a:srgbClr val="000000"/>
                </a:solidFill>
                <a:latin typeface="Arial Narrow"/>
              </a:rPr>
              <a:t>SM</a:t>
            </a:r>
            <a:r>
              <a:rPr b="1" lang="en-US" sz="31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 Narrow"/>
              </a:rPr>
              <a:t>for Engineers: Part II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Arial Narrow"/>
              </a:rPr>
              <a:t>Software Design I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879120" y="831600"/>
            <a:ext cx="742140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PSP Design Process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907560" y="1652400"/>
            <a:ext cx="7410600" cy="45702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 fontScale="97000"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nce there is no single best design method, the PSP  supports multiple method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PSP focuses on what a complete design should contai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goal is to eliminate requirements and design defec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PSP uses design templates to provid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30840" indent="-164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iteria for design complete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30840" indent="-164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viewable desig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977760" y="904680"/>
            <a:ext cx="742176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sign Completenes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1002960" y="1699920"/>
            <a:ext cx="7413480" cy="459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nder-specified and incomplete designs are expensive and error-pron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signs can be over-specified, especially when they are produced without completeness criteri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the PSP course, most students find that their designs are incomplete and do not adequately guide implementat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 avoid over- or under-specific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293400" indent="-145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amine your defect dat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293400" indent="-145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stablish design completeness criter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293400" indent="-145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cus on design qual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77680" y="826920"/>
            <a:ext cx="742140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sign Represent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905040" y="165240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t is important to separate two issu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w to do the desig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w to represent the design when it is complet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nce the PSP can be used with any design method, it does not specify a specific design approach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wever, the PSP does address design representat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869760" y="850680"/>
            <a:ext cx="742140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sign Methods and Nota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885960" y="1647720"/>
            <a:ext cx="741024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 fontScale="94000"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re are many design method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20760" indent="-15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e have been proven best for every domai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20760" indent="-15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best method often depends on individual skills and  preferenc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20760" indent="-15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widely-usable process must work with many different design method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re are also many types of design notation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20760" indent="-15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raphics assist in visualizing structu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20760" indent="-15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rmality provides precis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20760" indent="-15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ext provides intuitive understan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20760" indent="-15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ften all three types of design notations are need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992160" y="947520"/>
            <a:ext cx="742176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or Design Notations Cause Defec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988920" y="1714320"/>
            <a:ext cx="7413840" cy="459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sign visibil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34440" indent="-1663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lex designs are difficult to visualiz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34440" indent="-1663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poor representation compounds visualization problem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34440" indent="-1663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well-represented design captures all design decisions unambiguousl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sign redundanc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34440" indent="-1663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redundant design is often inconsiste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34440" indent="-1663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consistency breeds errors and causes defec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34440" indent="-1663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quality design has minimum duplicat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34440" indent="-1663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ere possible, use design tools that ensure consistenc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990360" y="904680"/>
            <a:ext cx="739116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sign Notation Requirements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 txBox="1"/>
          <p:nvPr/>
        </p:nvSpPr>
        <p:spPr>
          <a:xfrm>
            <a:off x="1022400" y="169992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design notation mu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289800" indent="-14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ecisely define all significant design aspect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289800" indent="-14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 commonly understoo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289800" indent="-14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unicate the designers’ int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289800" indent="-14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elp to identify design problems and omiss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289800" indent="-14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 suitable for representing a broad range of desig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design should als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289800" indent="-14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 concise and easy to u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289800" indent="-14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vide a complete and accessible refere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289800" indent="-14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minimum redundanc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rmal notations meet these criteri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289800" indent="-14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866520" y="822240"/>
            <a:ext cx="742140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sing Formal Notation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917640" y="1671480"/>
            <a:ext cx="741024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dvantages: using a formal not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duces precise and compact desig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uilds familiarity with an important not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s consistent with the notation used in formal methods for proving program correct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tinguishes logic from other express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advantages: formal desig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nerally take more time to cre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ake practice to build familiar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y not be understood by users and co-work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831060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thematical Not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7" name="Object 3"/>
          <p:cNvGraphicFramePr/>
          <p:nvPr/>
        </p:nvGraphicFramePr>
        <p:xfrm>
          <a:off x="739800" y="1450800"/>
          <a:ext cx="7958160" cy="5102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9800" y="1450800"/>
                    <a:ext cx="7958160" cy="510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866880" y="730080"/>
            <a:ext cx="7826400" cy="8258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gram Functional Statemen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917640" y="1652400"/>
            <a:ext cx="7702560" cy="2516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 fontScale="81000"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en describing program functions, actions and conditions are separat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dition → A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ad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“When Condition is true, do Action.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ral condition/action pairs are written 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1" name=""/>
          <p:cNvGraphicFramePr/>
          <p:nvPr/>
        </p:nvGraphicFramePr>
        <p:xfrm>
          <a:off x="1098720" y="4194000"/>
          <a:ext cx="7356240" cy="2027520"/>
        </p:xfrm>
        <a:graphic>
          <a:graphicData uri="http://schemas.openxmlformats.org/drawingml/2006/table">
            <a:tbl>
              <a:tblPr/>
              <a:tblGrid>
                <a:gridCol w="3678120"/>
                <a:gridCol w="3678120"/>
              </a:tblGrid>
              <a:tr h="405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ondition A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→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Action 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en Condition A, do Action 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64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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4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ondition B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→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Action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en Condition B, do Action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64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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ondition C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→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Action 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en Condition C, do Action 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868320" y="730080"/>
            <a:ext cx="7826400" cy="8258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tation Examples -1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875880" y="1657080"/>
            <a:ext cx="7410600" cy="45702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is positive, set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to zer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x &gt; 0 → y := 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is even, return the sum of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 otherwise return the difference between x and 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en(x) → return( x + y )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odd(x) → return( x – y 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866520" y="831600"/>
            <a:ext cx="742140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cture Topic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888480" y="1655640"/>
            <a:ext cx="741060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 fontScale="79000"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design framewor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sign complete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sign represent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PSP design templa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269280" indent="-133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perational specific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269280" indent="-133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unctional specific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269280" indent="-133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ate specific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269280" indent="-133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ogic specific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design hierarch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868320" y="730080"/>
            <a:ext cx="7826400" cy="8258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tation Examples -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 txBox="1"/>
          <p:nvPr/>
        </p:nvSpPr>
        <p:spPr>
          <a:xfrm>
            <a:off x="894960" y="1676160"/>
            <a:ext cx="7410600" cy="849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ate that an array a[0..N-1] has no duplicate elemen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 Box 4"/>
          <p:cNvSpPr/>
          <p:nvPr/>
        </p:nvSpPr>
        <p:spPr>
          <a:xfrm>
            <a:off x="1055520" y="4079880"/>
            <a:ext cx="746928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s expression reads as follow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r all indexes i and j with values in the range 0 to N-1, where i and j are not equal, the corresponding elements of the array a are not equa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Picture 5" descr="s15"/>
          <p:cNvPicPr/>
          <p:nvPr/>
        </p:nvPicPr>
        <p:blipFill>
          <a:blip r:embed="rId1"/>
          <a:stretch/>
        </p:blipFill>
        <p:spPr>
          <a:xfrm>
            <a:off x="946080" y="2473200"/>
            <a:ext cx="7421760" cy="1094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860400" y="80784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sers of Design Inform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 txBox="1"/>
          <p:nvPr/>
        </p:nvSpPr>
        <p:spPr>
          <a:xfrm>
            <a:off x="905040" y="1662120"/>
            <a:ext cx="741024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principal users of the design a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lement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sign reviewers and verifi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esters and test develop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ocumenters, maintainers, and enhanc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se users potentially need a large amount of materia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t all information is needed immediatel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me information can be obtained from other sourc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t is wise to limit the design workload as much as possibl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865080" y="826920"/>
            <a:ext cx="742176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ssential Design Inform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 txBox="1"/>
          <p:nvPr/>
        </p:nvSpPr>
        <p:spPr>
          <a:xfrm>
            <a:off x="890280" y="1657080"/>
            <a:ext cx="7829640" cy="45702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information that designers should provide includ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picture of where the program fits into the syste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description of how the program will be us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specification for all related classes and par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structural view of the produ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specification of all external calls and referenc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list of all external variables, parameters, and consta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clear statement of the program’s log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essential design information can be categorized into static or dynamic views, and internal or external view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838080" y="822240"/>
            <a:ext cx="7421760" cy="633600"/>
          </a:xfrm>
          <a:prstGeom prst="rect">
            <a:avLst/>
          </a:prstGeom>
          <a:noFill/>
          <a:ln w="0">
            <a:noFill/>
          </a:ln>
        </p:spPr>
        <p:txBody>
          <a:bodyPr lIns="130320" rIns="130320" tIns="65160" bIns="651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sign View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3" name="Picture 16" descr="s14"/>
          <p:cNvPicPr/>
          <p:nvPr/>
        </p:nvPicPr>
        <p:blipFill>
          <a:blip r:embed="rId1"/>
          <a:stretch/>
        </p:blipFill>
        <p:spPr>
          <a:xfrm>
            <a:off x="1176480" y="1971720"/>
            <a:ext cx="6789600" cy="3902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860400" y="8316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sign Templat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836640" y="1662120"/>
            <a:ext cx="756288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 marL="572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 design templates are used in the PSP to cover the four design view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1717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perational specification templat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1717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unctional specification templ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1717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ate specification templat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1717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ogic specification templ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2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2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se four templates provide the framework for completely and precisely recording a software desig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852120" y="822240"/>
            <a:ext cx="7421400" cy="633600"/>
          </a:xfrm>
          <a:prstGeom prst="rect">
            <a:avLst/>
          </a:prstGeom>
          <a:noFill/>
          <a:ln w="0">
            <a:noFill/>
          </a:ln>
        </p:spPr>
        <p:txBody>
          <a:bodyPr lIns="130320" rIns="130320" tIns="65160" bIns="651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pping Templates to View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7" name="Picture 17" descr="s16"/>
          <p:cNvPicPr/>
          <p:nvPr/>
        </p:nvPicPr>
        <p:blipFill>
          <a:blip r:embed="rId1"/>
          <a:stretch/>
        </p:blipFill>
        <p:spPr>
          <a:xfrm>
            <a:off x="1176480" y="2044800"/>
            <a:ext cx="6789600" cy="390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882360" y="807840"/>
            <a:ext cx="594972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perational Templat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890640" y="165240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 fontScale="98000"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operational specification template describes the users’ normal and abnormal interactions with the syste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t contains th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15720" indent="-1663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incipal user actions and system response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15720" indent="-1663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ticipated error and recovery condi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15720" indent="-1663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operational specification template can be used 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15720" indent="-1663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fine test scenarios and test ca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15720" indent="-1663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solve development questions about operational issu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15720" indent="-1663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solve requirements discussions with us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0" name="Picture 3087" descr="ED"/>
          <p:cNvPicPr/>
          <p:nvPr/>
        </p:nvPicPr>
        <p:blipFill>
          <a:blip r:embed="rId1"/>
          <a:stretch/>
        </p:blipFill>
        <p:spPr>
          <a:xfrm>
            <a:off x="7496280" y="236520"/>
            <a:ext cx="1377720" cy="984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872640" y="880560"/>
            <a:ext cx="6218280" cy="56196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ample Operational Templat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2" name="Object 4111"/>
          <p:cNvGraphicFramePr/>
          <p:nvPr/>
        </p:nvGraphicFramePr>
        <p:xfrm>
          <a:off x="957240" y="1773360"/>
          <a:ext cx="7323120" cy="4632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93" name="Object 41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7240" y="1773360"/>
                    <a:ext cx="7323120" cy="463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94" name="Picture 4113" descr="ED"/>
          <p:cNvPicPr/>
          <p:nvPr/>
        </p:nvPicPr>
        <p:blipFill>
          <a:blip r:embed="rId3"/>
          <a:stretch/>
        </p:blipFill>
        <p:spPr>
          <a:xfrm>
            <a:off x="7497720" y="208080"/>
            <a:ext cx="1378080" cy="984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882360" y="817200"/>
            <a:ext cx="652284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perational Template Class Exercise -1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921960" y="1650960"/>
            <a:ext cx="7410600" cy="3154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r this exercise, as a class, we will produce an operational scenario template for program 5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7" name="Picture 5" descr="ED"/>
          <p:cNvPicPr/>
          <p:nvPr/>
        </p:nvPicPr>
        <p:blipFill>
          <a:blip r:embed="rId1"/>
          <a:stretch/>
        </p:blipFill>
        <p:spPr>
          <a:xfrm>
            <a:off x="7662960" y="208080"/>
            <a:ext cx="1377720" cy="984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98" name="Object 11"/>
          <p:cNvGraphicFramePr/>
          <p:nvPr/>
        </p:nvGraphicFramePr>
        <p:xfrm>
          <a:off x="1284120" y="2732040"/>
          <a:ext cx="6540840" cy="31240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499" name="Object 1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84120" y="2732040"/>
                    <a:ext cx="6540840" cy="31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977400" y="890280"/>
            <a:ext cx="533556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unctional Template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 txBox="1"/>
          <p:nvPr/>
        </p:nvSpPr>
        <p:spPr>
          <a:xfrm>
            <a:off x="1009800" y="171108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functional specification template allows you to unambiguously define the external functions provided by the produc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asses and inheritanc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ternally visible attribu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ternal functions provi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lationships with other classes or par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ere possible, specify the behavior of each function or method with a formal notat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2" name="Picture 16" descr="EDS"/>
          <p:cNvPicPr/>
          <p:nvPr/>
        </p:nvPicPr>
        <p:blipFill>
          <a:blip r:embed="rId1"/>
          <a:stretch/>
        </p:blipFill>
        <p:spPr>
          <a:xfrm>
            <a:off x="7526160" y="193680"/>
            <a:ext cx="1378080" cy="984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861840" y="826920"/>
            <a:ext cx="742176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sign is a Learning Proces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888480" y="1645920"/>
            <a:ext cx="7410600" cy="45702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 fontScale="94000"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sign involves discovery, invention, and intuitive leaps from one abstraction level to anoth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ile the design must reflect the requirements, requirements usually are not stable until the product has been used, if the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sign work is iterative, and it must be driven by feedback from all involved parti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critical problem is knowing when to freeze the design to produce the next iterat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977400" y="937800"/>
            <a:ext cx="598356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ample Functional Templat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4" name="Object 19"/>
          <p:cNvGraphicFramePr/>
          <p:nvPr/>
        </p:nvGraphicFramePr>
        <p:xfrm>
          <a:off x="1476360" y="1504800"/>
          <a:ext cx="5850000" cy="5099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5" name="Object 1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504800"/>
                    <a:ext cx="5850000" cy="509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06" name="Picture 21" descr="EDS"/>
          <p:cNvPicPr/>
          <p:nvPr/>
        </p:nvPicPr>
        <p:blipFill>
          <a:blip r:embed="rId3"/>
          <a:stretch/>
        </p:blipFill>
        <p:spPr>
          <a:xfrm>
            <a:off x="7542360" y="193680"/>
            <a:ext cx="1377720" cy="984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875880" y="852480"/>
            <a:ext cx="652140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ducing the Functional Templat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893520" y="1647720"/>
            <a:ext cx="763884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 produce a functional template, you mu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cide how to build the produ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fine the product’s func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fine the key product attribu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functional specification is usually developed in step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duce an initial desig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fine the elements of that desig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vise the functional specification template as you better understand how to build the produc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9" name="Picture 16" descr="EDS"/>
          <p:cNvPicPr/>
          <p:nvPr/>
        </p:nvPicPr>
        <p:blipFill>
          <a:blip r:embed="rId1"/>
          <a:stretch/>
        </p:blipFill>
        <p:spPr>
          <a:xfrm>
            <a:off x="7526160" y="208080"/>
            <a:ext cx="1378080" cy="984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866880" y="842760"/>
            <a:ext cx="677376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unctional Template Class Exercise -1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 txBox="1"/>
          <p:nvPr/>
        </p:nvSpPr>
        <p:spPr>
          <a:xfrm>
            <a:off x="893880" y="165708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r this exercise, as a class, we will produce a functional specification template for program 5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’ll start by quickly sketching out a design of program 5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2" name="Picture 19" descr="EDS"/>
          <p:cNvPicPr/>
          <p:nvPr/>
        </p:nvPicPr>
        <p:blipFill>
          <a:blip r:embed="rId1"/>
          <a:stretch/>
        </p:blipFill>
        <p:spPr>
          <a:xfrm>
            <a:off x="7653240" y="209520"/>
            <a:ext cx="1378080" cy="984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866880" y="842760"/>
            <a:ext cx="677376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unctional Template Class Exercise -2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893880" y="165708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ext, we will produce a functional specification template for program 5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5" name="Picture 4" descr="EDS"/>
          <p:cNvPicPr/>
          <p:nvPr/>
        </p:nvPicPr>
        <p:blipFill>
          <a:blip r:embed="rId1"/>
          <a:stretch/>
        </p:blipFill>
        <p:spPr>
          <a:xfrm>
            <a:off x="7653240" y="209520"/>
            <a:ext cx="1378080" cy="984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16" name="Object 410"/>
          <p:cNvGraphicFramePr/>
          <p:nvPr/>
        </p:nvGraphicFramePr>
        <p:xfrm>
          <a:off x="1241280" y="2452680"/>
          <a:ext cx="6567480" cy="38070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517" name="Object 41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41280" y="2452680"/>
                    <a:ext cx="6567480" cy="380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871560" y="846000"/>
            <a:ext cx="626112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ate Specification Template -1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 txBox="1"/>
          <p:nvPr/>
        </p:nvSpPr>
        <p:spPr>
          <a:xfrm>
            <a:off x="888480" y="1657080"/>
            <a:ext cx="7410600" cy="45702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state specification template (SST) precisely defin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program states requir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ransitions among the sta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ctions taken with each transi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the SST, you ca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fine state machine 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alyze the state machine desig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cognize mistakes and omiss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Picture 15" descr="ID"/>
          <p:cNvPicPr/>
          <p:nvPr/>
        </p:nvPicPr>
        <p:blipFill>
          <a:blip r:embed="rId1"/>
          <a:stretch/>
        </p:blipFill>
        <p:spPr>
          <a:xfrm>
            <a:off x="7526160" y="222120"/>
            <a:ext cx="1378080" cy="984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875880" y="822240"/>
            <a:ext cx="653580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ate Specification Template -2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 txBox="1"/>
          <p:nvPr/>
        </p:nvSpPr>
        <p:spPr>
          <a:xfrm>
            <a:off x="880560" y="1662120"/>
            <a:ext cx="741060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SST specif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name of every stat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brief description of each st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name and description of any functions or parameters used in the S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conditions that cause transitions from the state to itself or to any other st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conditions that cause transitions from any other state to this st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actions taken during each transi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3" name="Picture 4" descr="ID"/>
          <p:cNvPicPr/>
          <p:nvPr/>
        </p:nvPicPr>
        <p:blipFill>
          <a:blip r:embed="rId1"/>
          <a:stretch/>
        </p:blipFill>
        <p:spPr>
          <a:xfrm>
            <a:off x="7526160" y="222120"/>
            <a:ext cx="1378080" cy="984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873000" y="880560"/>
            <a:ext cx="7421760" cy="56196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ample State Template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5" name="Object 3"/>
          <p:cNvGraphicFramePr/>
          <p:nvPr/>
        </p:nvGraphicFramePr>
        <p:xfrm>
          <a:off x="1422360" y="1494000"/>
          <a:ext cx="4952880" cy="5073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22360" y="1494000"/>
                    <a:ext cx="4952880" cy="507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27" name="Picture 4" descr="ID"/>
          <p:cNvPicPr/>
          <p:nvPr/>
        </p:nvPicPr>
        <p:blipFill>
          <a:blip r:embed="rId3"/>
          <a:stretch/>
        </p:blipFill>
        <p:spPr>
          <a:xfrm>
            <a:off x="7526160" y="222120"/>
            <a:ext cx="1378080" cy="984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864720" y="846000"/>
            <a:ext cx="633420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ogic Specification Template -1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 txBox="1"/>
          <p:nvPr/>
        </p:nvSpPr>
        <p:spPr>
          <a:xfrm>
            <a:off x="899640" y="1657080"/>
            <a:ext cx="7613640" cy="45702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logic specification template precisely defines the program’s internal logic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ts objective is to describe the logic in a concise and convenient notat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pseudocode compatible with the implementation language is often appropriat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rmal notation is also appropriat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oth the designers and the implementers must be familiar with the notation us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0" name="Picture 15" descr="IS"/>
          <p:cNvPicPr/>
          <p:nvPr/>
        </p:nvPicPr>
        <p:blipFill>
          <a:blip r:embed="rId1"/>
          <a:stretch/>
        </p:blipFill>
        <p:spPr>
          <a:xfrm>
            <a:off x="7526160" y="222120"/>
            <a:ext cx="1378080" cy="984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864720" y="846000"/>
            <a:ext cx="633420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ogic Specification Template -2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887400" y="1647720"/>
            <a:ext cx="770256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logic specification template should specif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logic for each item or method, each part and class, and the overall progra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precise call to each program, part, or method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y external referenc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pecial data types and data defini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Picture 15" descr="IS"/>
          <p:cNvPicPr/>
          <p:nvPr/>
        </p:nvPicPr>
        <p:blipFill>
          <a:blip r:embed="rId1"/>
          <a:stretch/>
        </p:blipFill>
        <p:spPr>
          <a:xfrm>
            <a:off x="7526160" y="222120"/>
            <a:ext cx="1378080" cy="984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873000" y="880560"/>
            <a:ext cx="5158080" cy="56196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ample Logic Templat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5" name="Object 22"/>
          <p:cNvGraphicFramePr/>
          <p:nvPr/>
        </p:nvGraphicFramePr>
        <p:xfrm>
          <a:off x="1712880" y="1490760"/>
          <a:ext cx="5697720" cy="4197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36" name="Object 2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12880" y="1490760"/>
                    <a:ext cx="5697720" cy="419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37" name="Picture 24" descr="IS"/>
          <p:cNvPicPr/>
          <p:nvPr/>
        </p:nvPicPr>
        <p:blipFill>
          <a:blip r:embed="rId3"/>
          <a:stretch/>
        </p:blipFill>
        <p:spPr>
          <a:xfrm>
            <a:off x="7524720" y="222120"/>
            <a:ext cx="1378080" cy="984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857160" y="822240"/>
            <a:ext cx="7421760" cy="633600"/>
          </a:xfrm>
          <a:prstGeom prst="rect">
            <a:avLst/>
          </a:prstGeom>
          <a:noFill/>
          <a:ln w="0">
            <a:noFill/>
          </a:ln>
        </p:spPr>
        <p:txBody>
          <a:bodyPr lIns="130320" rIns="130320" tIns="65160" bIns="651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Design Framework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Picture 26" descr="s4"/>
          <p:cNvPicPr/>
          <p:nvPr/>
        </p:nvPicPr>
        <p:blipFill>
          <a:blip r:embed="rId1"/>
          <a:stretch/>
        </p:blipFill>
        <p:spPr>
          <a:xfrm>
            <a:off x="1330200" y="1519200"/>
            <a:ext cx="6483600" cy="503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866880" y="823680"/>
            <a:ext cx="453384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sing Pseudoco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893880" y="16761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 fontScale="88000"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producing pseudocode design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00240" indent="-149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 spoken languag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00240" indent="-149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ere possible, avoid programming construc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00240" indent="-149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ere unavoidable, use constructs from the implementation langua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00240" indent="-149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ere the program’s action is clear, make a brief no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00240" indent="-149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 more specific about complex constructs, loops, and state-machine structu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sider writing the pseudocode in your development environme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ater, when implementing the program, include the pseudocode in the commen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0" name="Picture 15" descr="IS"/>
          <p:cNvPicPr/>
          <p:nvPr/>
        </p:nvPicPr>
        <p:blipFill>
          <a:blip r:embed="rId1"/>
          <a:stretch/>
        </p:blipFill>
        <p:spPr>
          <a:xfrm>
            <a:off x="7497720" y="222120"/>
            <a:ext cx="1378080" cy="984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866520" y="833400"/>
            <a:ext cx="742140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ogic Template Class Exercise -1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 txBox="1"/>
          <p:nvPr/>
        </p:nvSpPr>
        <p:spPr>
          <a:xfrm>
            <a:off x="893880" y="1647720"/>
            <a:ext cx="741024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r this exercise, as a class, we will produce a logic specification template for a function in program 5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3" name="Picture 30" descr="IS"/>
          <p:cNvPicPr/>
          <p:nvPr/>
        </p:nvPicPr>
        <p:blipFill>
          <a:blip r:embed="rId1"/>
          <a:stretch/>
        </p:blipFill>
        <p:spPr>
          <a:xfrm>
            <a:off x="7650000" y="222120"/>
            <a:ext cx="1378080" cy="984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44" name="Object 31"/>
          <p:cNvGraphicFramePr/>
          <p:nvPr/>
        </p:nvGraphicFramePr>
        <p:xfrm>
          <a:off x="1290600" y="2584440"/>
          <a:ext cx="6540480" cy="32637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545" name="Object 3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90600" y="2584440"/>
                    <a:ext cx="6540480" cy="326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860400" y="8172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sing Design Templat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 txBox="1"/>
          <p:nvPr/>
        </p:nvSpPr>
        <p:spPr>
          <a:xfrm>
            <a:off x="878040" y="1657080"/>
            <a:ext cx="7702560" cy="45702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PSP design templates provide one way to represent a desig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y are precise, unambiguous, non-redundant, and complet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 the PSP design templates in conjunction with your other design method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ther representations may be substituted if they are equally precise, unambiguous, non-redundant, and complet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831060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sign Guidelin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401400" y="1081080"/>
            <a:ext cx="8319960" cy="50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en designing large programs, use a dynamic design strategy that allows for uncertaint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me design problems cannot be resolved without first building and testing a potential solution.  For these cases, use prototyp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en modifying or enhancing an existing system without a documented design, use the design templates to record the design as you decipher i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987120" y="89496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Design Hierarch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 txBox="1"/>
          <p:nvPr/>
        </p:nvSpPr>
        <p:spPr>
          <a:xfrm>
            <a:off x="1031760" y="1709640"/>
            <a:ext cx="74138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You can use the design templates to refine the specification and design of large or small software produc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27600" indent="-16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27600" indent="-16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gra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27600" indent="-16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27600" indent="-16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du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arting with requirements, produce a set of design templates to describe the highest-level produc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 these design templates as the requirements for producing the design templates for the next product leve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838080" y="826920"/>
            <a:ext cx="7421760" cy="633600"/>
          </a:xfrm>
          <a:prstGeom prst="rect">
            <a:avLst/>
          </a:prstGeom>
          <a:noFill/>
          <a:ln w="0">
            <a:noFill/>
          </a:ln>
        </p:spPr>
        <p:txBody>
          <a:bodyPr lIns="130320" rIns="130320" tIns="65160" bIns="651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gram Desig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3" name="Picture 16" descr="s38"/>
          <p:cNvPicPr/>
          <p:nvPr/>
        </p:nvPicPr>
        <p:blipFill>
          <a:blip r:embed="rId1"/>
          <a:stretch/>
        </p:blipFill>
        <p:spPr>
          <a:xfrm>
            <a:off x="1146240" y="1674720"/>
            <a:ext cx="6851520" cy="472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852120" y="822240"/>
            <a:ext cx="7421400" cy="633600"/>
          </a:xfrm>
          <a:prstGeom prst="rect">
            <a:avLst/>
          </a:prstGeom>
          <a:noFill/>
          <a:ln w="0">
            <a:noFill/>
          </a:ln>
        </p:spPr>
        <p:txBody>
          <a:bodyPr lIns="130320" rIns="130320" tIns="65160" bIns="651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dule Desig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5" name="Picture 16" descr="s39"/>
          <p:cNvPicPr/>
          <p:nvPr/>
        </p:nvPicPr>
        <p:blipFill>
          <a:blip r:embed="rId1"/>
          <a:stretch/>
        </p:blipFill>
        <p:spPr>
          <a:xfrm>
            <a:off x="1123920" y="1674720"/>
            <a:ext cx="6896160" cy="472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850680" y="831600"/>
            <a:ext cx="742140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ssages to Rememb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 txBox="1"/>
          <p:nvPr/>
        </p:nvSpPr>
        <p:spPr>
          <a:xfrm>
            <a:off x="902880" y="1674720"/>
            <a:ext cx="741060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ile design is a creative process, its routine aspects can be defin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good design notation will reduce design defec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ing precise design specifications and formats will improve design qualit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 the PSP design templates in the course exercises, and whenever you can do so in your work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852120" y="822240"/>
            <a:ext cx="7421400" cy="633600"/>
          </a:xfrm>
          <a:prstGeom prst="rect">
            <a:avLst/>
          </a:prstGeom>
          <a:noFill/>
          <a:ln w="0">
            <a:noFill/>
          </a:ln>
        </p:spPr>
        <p:txBody>
          <a:bodyPr lIns="130320" rIns="130320" tIns="65160" bIns="651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ment Framework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2" name="Picture 42" descr="s5"/>
          <p:cNvPicPr/>
          <p:nvPr/>
        </p:nvPicPr>
        <p:blipFill>
          <a:blip r:embed="rId1"/>
          <a:stretch/>
        </p:blipFill>
        <p:spPr>
          <a:xfrm>
            <a:off x="1380960" y="1704960"/>
            <a:ext cx="6351840" cy="4667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831060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sign Qualit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988920" y="1699920"/>
            <a:ext cx="7413840" cy="459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sign is a defect prevention activit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or quality designs are a major source of rework, maintenance, and user dissatisfact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quality desig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s complete and preci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ets the user’s nee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ecisely guides implement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977760" y="904680"/>
            <a:ext cx="742176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sign Level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988920" y="1714320"/>
            <a:ext cx="7413840" cy="20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sign work is an inverted pyramid in which each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296640" indent="-147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vides a foundation for the following leve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296640" indent="-147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bugs the preceding leve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 save time and prevent defects, document all design decisions at all levels when they are mad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7" name="Picture 11" descr="s7"/>
          <p:cNvPicPr/>
          <p:nvPr/>
        </p:nvPicPr>
        <p:blipFill>
          <a:blip r:embed="rId1"/>
          <a:stretch/>
        </p:blipFill>
        <p:spPr>
          <a:xfrm>
            <a:off x="2120760" y="4010040"/>
            <a:ext cx="4900680" cy="23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987120" y="89496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ucturing the Design Proces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1012680" y="1704600"/>
            <a:ext cx="7413840" cy="459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ood software designers follow a dynamic process. The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07080" indent="-15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ump from concept to detai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07080" indent="-15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multaneously consider issues at several design leve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07080" indent="-15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plore multiple alternativ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structured design process can help you to manage the dynamics of desig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07080" indent="-15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pture what has been learn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07080" indent="-15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cord and manage issu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07080" indent="-15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rack design statu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07080" indent="-15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properly-implemented design process will reduce rework, manage routine tasks, and give the designer the freedom to be creativ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Design Hierarch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Picture 38" descr="s9"/>
          <p:cNvPicPr/>
          <p:nvPr/>
        </p:nvPicPr>
        <p:blipFill>
          <a:blip r:embed="rId1"/>
          <a:stretch/>
        </p:blipFill>
        <p:spPr>
          <a:xfrm>
            <a:off x="228600" y="1542960"/>
            <a:ext cx="8658360" cy="49341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15:45:23Z</dcterms:created>
  <dc:creator>Stacy Mitchell</dc:creator>
  <dc:description/>
  <cp:keywords/>
  <dc:language>en-US</dc:language>
  <cp:lastModifiedBy>wrn_loc_adm</cp:lastModifiedBy>
  <cp:lastPrinted>2000-12-21T16:04:54Z</cp:lastPrinted>
  <dcterms:modified xsi:type="dcterms:W3CDTF">2018-09-06T00:15:22Z</dcterms:modified>
  <cp:revision>207</cp:revision>
  <dc:subject/>
  <dc:title>No Slide Title</dc:title>
</cp:coreProperties>
</file>